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9728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1EC-4097-4CA8-98DC-C048C493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63421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6855-78C2-4CDE-8AA6-AC589A8D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D01-E565-4A6A-9E27-667C7CE9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3D3-3EE0-4072-89EA-FE601578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55B-F585-4301-A384-26164576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19C-9CDC-4618-94AA-DEE45208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013-9739-4763-8D6B-A8A9949B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1E6-2B0F-4AA5-AAB2-01910D40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441360"/>
            <a:ext cx="987408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54B-90D3-45D0-AD99-F0292211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2F1-2C45-496A-8D02-5B45E50B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714-8163-42FA-B470-798420E3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F29-B7EC-414B-B49C-D37A20CA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2040" indent="-392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68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261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620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9991800"/>
            <a:ext cx="25588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9991800"/>
            <a:ext cx="34732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9991800"/>
            <a:ext cx="25588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fld id="{7E60BAA2-6026-4DAC-83EB-EAA52A609C3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1:18:24Z</dcterms:created>
  <dc:creator>Genome Sciences Centre</dc:creator>
  <dc:description/>
  <dc:language>en-US</dc:language>
  <cp:lastModifiedBy>Genome Sciences Centre</cp:lastModifiedBy>
  <dcterms:modified xsi:type="dcterms:W3CDTF">2009-03-31T01:22:28Z</dcterms:modified>
  <cp:revision>1</cp:revision>
  <dc:subject/>
  <dc:title>Slide 1</dc:title>
</cp:coreProperties>
</file>