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972800" cy="10972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EE7D-1DC2-4F29-AB90-E4DD8D2D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360" y="63421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7900-0EE9-4C3D-A918-8EC28741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0880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CF5-6BA3-4EE2-B3EE-76ECB86B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800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26280" y="25603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36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800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26280" y="6342120"/>
            <a:ext cx="317916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860-E83F-472A-986C-9E6794844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B87-39D1-429B-829D-1BFD272C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D5F2-5632-4A77-AB74-F1217B72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1B1-3DDD-444B-BB46-C5409D3B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6B9-AA84-4DB1-BA14-77BF3124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360" y="441360"/>
            <a:ext cx="987408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5D1-4C70-4CC5-9D76-E0224873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F332-0E57-40A1-82AE-3604B557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08800" y="63421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715C-76E0-4333-AF98-E3FCD176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08800" y="2560320"/>
            <a:ext cx="481824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360" y="6342120"/>
            <a:ext cx="9874080" cy="3453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EF9-739C-4FDC-B5D3-55FC3CC0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2040" indent="-392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49240" indent="-3268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261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2620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51160" indent="-26028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9360" y="9991800"/>
            <a:ext cx="25588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49760" y="9991800"/>
            <a:ext cx="34732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64560" y="9991800"/>
            <a:ext cx="2558880" cy="76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  <a:defRPr b="0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fld id="{53E6791A-C6DB-4875-86B7-B9221053A37C}" type="slidenum">
              <a:rPr b="0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9360" y="441360"/>
            <a:ext cx="9874080" cy="1828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9360" y="2560320"/>
            <a:ext cx="9874080" cy="724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7000" y="27000"/>
            <a:ext cx="10918800" cy="1091880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1:18:24Z</dcterms:created>
  <dc:creator>Genome Sciences Centre</dc:creator>
  <dc:description/>
  <dc:language>en-US</dc:language>
  <cp:lastModifiedBy>Genome Sciences Centre</cp:lastModifiedBy>
  <dcterms:modified xsi:type="dcterms:W3CDTF">2009-03-31T01:22:28Z</dcterms:modified>
  <cp:revision>1</cp:revision>
  <dc:subject/>
  <dc:title>Slide 1</dc:title>
</cp:coreProperties>
</file>